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8.jpeg" ContentType="image/jpeg"/>
  <Override PartName="/ppt/media/image7.jpeg" ContentType="image/jpeg"/>
  <Override PartName="/ppt/media/image31.wmf" ContentType="image/x-wmf"/>
  <Override PartName="/ppt/media/image19.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4B4E-812B-4D24-919D-DE1845566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C04C-2A77-473D-802B-0BCA80D2D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E5FD4-6EF2-451C-AB63-45493AC86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5A4A4-B945-40E2-B9BF-B67019E89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C369A-311A-4BC8-BD67-2C851C9B9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B6D0A-FA03-4931-B2CD-00EB3D275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97023-0A9D-471C-BE43-E1B87985E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1421D-516D-4F69-BCEC-7A8EB5321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68E7D-1D01-4685-A156-DA3732720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8425F-0887-442D-A569-E437FD8CC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FF46F-8EFE-4911-8913-AAD1A162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A789-179F-4EA7-B45C-FE74E6DC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F155-F7D4-40F8-BBA9-F501EA928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FAB7-05C6-4ECA-9C43-8B73EE33D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0"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CB23B-B32E-42AF-8998-5F914026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B7036-906A-4F4F-A949-07E3E13F5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8"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3"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89969-3663-4E21-B831-92CED9033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F3CD-1366-4856-91D6-D9BE6204B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5088-2D99-434E-846B-D28FF93A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58BAC-BD58-43BC-8ED6-94E30EE1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04B9D-69BA-4F07-B9C2-FA5B37964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6954-23F2-4171-811C-448BC3F2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EEA4-BDB3-4BE0-8C69-6C124D7B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2111-99A0-4D64-8A49-BC6CDCDD2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 name="PlaceHolder 3"/>
          <p:cNvSpPr>
            <a:spLocks noGrp="1"/>
          </p:cNvSpPr>
          <p:nvPr>
            <p:ph type="dt" idx="1"/>
          </p:nvPr>
        </p:nvSpPr>
        <p:spPr>
          <a:xfrm>
            <a:off x="136440" y="6624720"/>
            <a:ext cx="190512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5720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707076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E4BE-B40D-43B0-B5E7-829FA93C1B7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4"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5" name="PlaceHolder 3"/>
          <p:cNvSpPr>
            <a:spLocks noGrp="1"/>
          </p:cNvSpPr>
          <p:nvPr>
            <p:ph type="dt" idx="4"/>
          </p:nvPr>
        </p:nvSpPr>
        <p:spPr>
          <a:xfrm>
            <a:off x="0" y="6706800"/>
            <a:ext cx="1905120" cy="16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3124080" y="6692400"/>
            <a:ext cx="2895840" cy="16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5"/>
          <p:cNvSpPr>
            <a:spLocks noGrp="1"/>
          </p:cNvSpPr>
          <p:nvPr>
            <p:ph type="sldNum" idx="6"/>
          </p:nvPr>
        </p:nvSpPr>
        <p:spPr>
          <a:xfrm>
            <a:off x="7238880" y="6692400"/>
            <a:ext cx="1905120" cy="1652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1890-3819-4FEF-BEAD-40A4863E52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race Evidence</a:t>
            </a:r>
            <a:endParaRPr b="0" lang="en-US" sz="3400" spc="-1" strike="noStrike">
              <a:solidFill>
                <a:srgbClr val="ffff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leasant Valley High School</a:t>
            </a:r>
            <a:endParaRPr b="0" lang="en-US" sz="25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ensic Sci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to Collec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thing from a massive object to a microscopic trac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objects are obviou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objects take careful testing in the Crime Lab to locat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tiny blood stains on a dark shirt may only be seen through microscopic analysis and chemical test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eased Victim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hologist will collec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th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gernail scraping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d and pubic hair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od (for DNA typ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ginal, Anal, and Oral Swabs (Sex Crim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overed bullets from body</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 swabs from shooting victims (GS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burial, collection of evidence from the body is difficult if not impossib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8"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bile Crime Laboratory</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jor misconcep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simply a vehicle carrying the required components to secure the scene, preserve evidence, and collect latent prints</a:t>
            </a:r>
            <a:endParaRPr b="0" lang="en-US" sz="2000" spc="-1" strike="noStrike">
              <a:solidFill>
                <a:srgbClr val="ffffff"/>
              </a:solidFill>
              <a:latin typeface="Arial"/>
            </a:endParaRPr>
          </a:p>
        </p:txBody>
      </p:sp>
      <p:pic>
        <p:nvPicPr>
          <p:cNvPr id="109" name="Picture 7" descr="420787554_3b24f7ffe2"/>
          <p:cNvPicPr/>
          <p:nvPr/>
        </p:nvPicPr>
        <p:blipFill>
          <a:blip r:embed="rId1"/>
          <a:stretch/>
        </p:blipFill>
        <p:spPr>
          <a:xfrm>
            <a:off x="1235160" y="2830680"/>
            <a:ext cx="3698640" cy="246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ect and Preserve Evide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tem must be placed in a separate bag/contain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uggist Fold: Fold into thirds, then into thirds again, tuck and label</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store bloodstained material in airtight containers</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isture can cause bacterial or fungal growth and ruin the evidence</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thing should be air dried and then placed in a paper contain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WAYS seal burnt/charred debris in an airtight container</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void re-entry of moisture into samp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ndard/Reference Sample- physical evidence whose origin is known, such as blood or hair that can be compared to crime scene eviden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erence is important…think back to fingerprints without a reference…they have no value at all</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egal Consider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endment 4 must be follow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right of the people to be secure in their persons, houses, papers, and effects, against unreasonable searches and seizure, shall not be violated, and no warrants shall issue, but upon probable cause, supported by oath or affirmation, and particularly describing the place to be searched, and the persons or things seiz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ichigan v. Tyl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reme Court upheld tha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We hold that an entry to fight a fire requires no warrant, and that once in the building, officials may remain there for a reasonable time to investigate the cause of the blaze. Thereafter, additional entries to investigate the cause of the fire must be made pursuant to the warrant procedur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END OF CRIME SCENE SECTIO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1"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on Types of Physical Evidence</a:t>
            </a:r>
            <a:endParaRPr b="0" lang="en-US" sz="21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e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iv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osiv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gerpri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munition</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5086080" y="1584000"/>
            <a:ext cx="370044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las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ir</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ression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ysiological fluid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int</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troleum product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lastic bag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wder residue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rial number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il and mineral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ool mark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ehicle light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od and other vegetative matter</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vidence of Contact Large"/>
          <p:cNvPicPr/>
          <p:nvPr/>
        </p:nvPicPr>
        <p:blipFill>
          <a:blip r:embed="rId1"/>
          <a:stretch/>
        </p:blipFill>
        <p:spPr>
          <a:xfrm>
            <a:off x="304920" y="228600"/>
            <a:ext cx="8528040" cy="639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8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cessing the Crime Scen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hysical Evidence- any and all objects that can establish that a crime has been committed or can provide a link between a crime and its victim or a crime and its perpetrato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ensics begins at the crime scen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investigator can not recognize, collect, and preserve physical evidence, then there is not any sophisticated technology, lab examination, or technical expertise can salvage the crime scen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Evidence Triangle 1 Large"/>
          <p:cNvPicPr/>
          <p:nvPr/>
        </p:nvPicPr>
        <p:blipFill>
          <a:blip r:embed="rId1"/>
          <a:stretch/>
        </p:blipFill>
        <p:spPr>
          <a:xfrm>
            <a:off x="304920" y="228600"/>
            <a:ext cx="8547120" cy="641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Evidence Triangle 2 Large"/>
          <p:cNvPicPr/>
          <p:nvPr/>
        </p:nvPicPr>
        <p:blipFill>
          <a:blip r:embed="rId1"/>
          <a:stretch/>
        </p:blipFill>
        <p:spPr>
          <a:xfrm>
            <a:off x="228600" y="228600"/>
            <a:ext cx="8547120" cy="64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termining of a substance’s physical or chemical ident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niston Crime Lab- primarily used as a drug identification lab</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sting procedures differs with each substance to be test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xample, you would not test for a white powder to be a base by adding another base to it, you would need to add and acid to see a reaction proving the pH of the unknow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ve results will have to be beyond any reasonable doubt for it to hold up in cour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aris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t a suspect specimen and a reference specimen through the same test to try to plot a common origin</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matching a hair found at a crime scene to that of a suspect who claims to have not been at that loc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step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bination of select properties to that of the reference specimen and observ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cate the source of the suspect specime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dividual Evide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ties lead to a source with a high degree of certainty</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 </a:t>
            </a:r>
            <a:endParaRPr b="0" lang="en-US" sz="2200" spc="-1" strike="noStrike">
              <a:solidFill>
                <a:srgbClr val="ffffff"/>
              </a:solidFill>
              <a:latin typeface="Arial"/>
            </a:endParaRPr>
          </a:p>
          <a:p>
            <a:pPr lvl="3" marL="1598760" indent="-227160">
              <a:lnSpc>
                <a:spcPct val="9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riations on a bullet, irregular patterns on the bottom of a shoe, fitting together of a piece of shattered glass, matching the box of plastic storage bags to an individual bag through the striations on the bag</a:t>
            </a:r>
            <a:endParaRPr b="0" lang="en-US" sz="19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almost impossible to make a mathematical prediction of how certain the link is, but it is assumed to be more than can be imagined mathematicall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nch Scientist, Victor Balthazard determined the probability of two people having the same fingerprint to be 1 x 10</a:t>
            </a:r>
            <a:r>
              <a:rPr b="0" lang="en-US" sz="2200" spc="-1" strike="noStrike" baseline="30000">
                <a:solidFill>
                  <a:srgbClr val="ffffff"/>
                </a:solidFill>
                <a:latin typeface="Arial"/>
              </a:rPr>
              <a:t>60</a:t>
            </a:r>
            <a:r>
              <a:rPr b="0" lang="en-US" sz="2200" spc="-1" strike="noStrike">
                <a:solidFill>
                  <a:srgbClr val="ffffff"/>
                </a:solidFill>
                <a:latin typeface="Arial"/>
              </a:rPr>
              <a:t> or 1 followed by 60 zer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ass Evidenc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to a group of objects or pers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y knowing the color of a car does not have near the probability of being as accurate as comparing two paint chips and finding an identical matc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t Rule- multiplying together the frequencies of independently occurring genetic markers to obtain an overall frequency of occurrence in a genetic profil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O.J. Simpson Murder Trial</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bloodstain located at the scene of Nicole Brown’s murder was found to include a number of blood factors that matched some blood factors of O.J. Simpson’s bloo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lood factors did not match Nicole Brown or Ron Goldman, the two victi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eliminated the two victims as the source of that particular bloodstai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e would assume that it would place O.J. Simpson at the scene of the crime…but O.J. is innocen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and Pigs F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7"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value of class evidence is only a factor when it can be combined with other evidence that is free of human bias</a:t>
            </a:r>
            <a:endParaRPr b="0" lang="en-US" sz="2100" spc="-1" strike="noStrike">
              <a:solidFill>
                <a:srgbClr val="ffffff"/>
              </a:solidFill>
              <a:latin typeface="Arial"/>
            </a:endParaRPr>
          </a:p>
          <a:p>
            <a:pPr marL="341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38" name="Picture 5" descr="2362752007_d28957d1d2"/>
          <p:cNvPicPr/>
          <p:nvPr/>
        </p:nvPicPr>
        <p:blipFill>
          <a:blip r:embed="rId1"/>
          <a:stretch/>
        </p:blipFill>
        <p:spPr>
          <a:xfrm>
            <a:off x="5086440" y="2830680"/>
            <a:ext cx="3700440" cy="246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4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ime Scene Reconstruc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ethod used to support a likely sequence of events by the observation and evaluation of physical evidence, as well as statements made by those involved with the inciden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tecting the scene plays a role in this step of investigation as wel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physical evidence and evaluation of witnesses, the investigator must arrange what occurred, when it occurred, and how it occurr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y careful documentation, one can unravel all of the secrets and hidden portions of a crime scen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4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times, reconstruction requires the presence of a medical examiner in order to determine natural placement of a body…if the body is in an unnatural posi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ical examiner can determine if body has been moved due to detection of livor (not liver) distribution (enzymes that result in rigor morti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can also be determined if the body was clothed prior to death due to placement of livor distribution. If clothes were on the body, livor will not build up around clothing restricted areas</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8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all crimes require the collection of physical evidenc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ll reality, most law enforcement agencies do not send out units to any crime other than those deemed major or of a very serious natur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ce the commitment is made to process a crime scene, a moral obligation requires the completion of that proc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criminalist may also be us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criminalist may be used to implement a laser system to track the path of a bullet in order to determine the position of a shoot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y be used for blood spatter analysi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termine direction of projections and  shapes of broken glas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SR on clothing</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grpSp>
        <p:nvGrpSpPr>
          <p:cNvPr id="146" name="Diagram 15"/>
          <p:cNvGrpSpPr/>
          <p:nvPr/>
        </p:nvGrpSpPr>
        <p:grpSpPr>
          <a:xfrm>
            <a:off x="2894040" y="1709640"/>
            <a:ext cx="4233960" cy="3824280"/>
            <a:chOff x="2894040" y="1709640"/>
            <a:chExt cx="4233960" cy="3824280"/>
          </a:xfrm>
        </p:grpSpPr>
        <p:sp>
          <p:nvSpPr>
            <p:cNvPr id="147" name="_s1028"/>
            <p:cNvSpPr/>
            <p:nvPr/>
          </p:nvSpPr>
          <p:spPr>
            <a:xfrm flipH="1">
              <a:off x="3989520" y="4354560"/>
              <a:ext cx="511200" cy="295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48" name="_s1029"/>
            <p:cNvSpPr/>
            <p:nvPr/>
          </p:nvSpPr>
          <p:spPr>
            <a:xfrm>
              <a:off x="2894040" y="4357800"/>
              <a:ext cx="1176480" cy="117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ists</a:t>
              </a:r>
              <a:endParaRPr b="0" lang="en-US" sz="1200" spc="-1" strike="noStrike">
                <a:solidFill>
                  <a:srgbClr val="000000"/>
                </a:solidFill>
                <a:latin typeface="Arial"/>
              </a:endParaRPr>
            </a:p>
          </p:txBody>
        </p:sp>
        <p:sp>
          <p:nvSpPr>
            <p:cNvPr id="149" name="_s1030"/>
            <p:cNvSpPr/>
            <p:nvPr/>
          </p:nvSpPr>
          <p:spPr>
            <a:xfrm>
              <a:off x="5518080" y="4356000"/>
              <a:ext cx="511200" cy="295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50" name="_s1031"/>
            <p:cNvSpPr/>
            <p:nvPr/>
          </p:nvSpPr>
          <p:spPr>
            <a:xfrm>
              <a:off x="5951520" y="4356000"/>
              <a:ext cx="1176480" cy="117648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a:t>
              </a:r>
              <a:endParaRPr b="0" lang="en-US" sz="1200" spc="-1" strike="noStrike">
                <a:solidFill>
                  <a:srgbClr val="000000"/>
                </a:solidFill>
                <a:latin typeface="Arial"/>
              </a:endParaRPr>
            </a:p>
          </p:txBody>
        </p:sp>
        <p:sp>
          <p:nvSpPr>
            <p:cNvPr id="151" name="_s1032"/>
            <p:cNvSpPr/>
            <p:nvPr/>
          </p:nvSpPr>
          <p:spPr>
            <a:xfrm flipV="1">
              <a:off x="5010120" y="2883960"/>
              <a:ext cx="0" cy="590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52" name="_s1033"/>
            <p:cNvSpPr/>
            <p:nvPr/>
          </p:nvSpPr>
          <p:spPr>
            <a:xfrm>
              <a:off x="4422600" y="1709640"/>
              <a:ext cx="1176480" cy="117648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rs</a:t>
              </a:r>
              <a:endParaRPr b="0" lang="en-US" sz="1200" spc="-1" strike="noStrike">
                <a:solidFill>
                  <a:srgbClr val="000000"/>
                </a:solidFill>
                <a:latin typeface="Arial"/>
              </a:endParaRPr>
            </a:p>
          </p:txBody>
        </p:sp>
        <p:sp>
          <p:nvSpPr>
            <p:cNvPr id="153" name="_s1034"/>
            <p:cNvSpPr/>
            <p:nvPr/>
          </p:nvSpPr>
          <p:spPr>
            <a:xfrm>
              <a:off x="4422600" y="3475080"/>
              <a:ext cx="1176480" cy="117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Sce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tru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 Case Study</a:t>
            </a:r>
            <a:endParaRPr b="0" lang="en-US" sz="3400" spc="-1" strike="noStrike">
              <a:solidFill>
                <a:srgbClr val="ffffff"/>
              </a:solidFill>
              <a:latin typeface="Arial"/>
            </a:endParaRPr>
          </a:p>
        </p:txBody>
      </p:sp>
      <p:sp>
        <p:nvSpPr>
          <p:cNvPr id="155" name="PlaceHolder 2"/>
          <p:cNvSpPr>
            <a:spLocks noGrp="1"/>
          </p:cNvSpPr>
          <p:nvPr>
            <p:ph/>
          </p:nvPr>
        </p:nvSpPr>
        <p:spPr>
          <a:xfrm>
            <a:off x="1218960" y="159984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ayne Williams Trial and the Atlanta Child Murder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Wayne Williams Trial</a:t>
            </a:r>
            <a:endParaRPr b="0" lang="en-US" sz="3400" spc="-1" strike="noStrike">
              <a:solidFill>
                <a:srgbClr val="ffffff"/>
              </a:solidFill>
              <a:latin typeface="Arial"/>
            </a:endParaRPr>
          </a:p>
        </p:txBody>
      </p:sp>
      <p:sp>
        <p:nvSpPr>
          <p:cNvPr id="15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April and May of 1981, Nathaniel Carter and Jimmy Payne were murder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uring an 8 week trial, The physical evidence linking Williams to the two murders and 10 others were present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Georgia State Crime Laboratory collected a number of yellowish green fibers and some violet acetate fibers from the bodies and clothing of the victims found from 1979 to1981</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s were very similar and were suspected to be linked to a single sour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5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s provided hope that the murderer could be found</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yellowish green fibers were thought to have originated from a rug or carpet</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forensic chemist linked the fiber to a carpet, but was unable to immediately identify the manufacturer of the rare fib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Atlanta newspaper printed the identification of the fiber type when two murdered children were found in a riv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two children were clothed only in undergarments in an attempt to prevent further fiber identific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he bodies were dumped, police nearby were alerted by a splashing noise and apprehended a man driving away from the scene, Wayne William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wo days later, Nathaniel Carter’s nude body was lifted from the water of the Chattahoochee Riv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yellowish green fiber was lifted from his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 was the linked to the home of William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arpet was then determined to be produced by the Well-man Corporation</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confirmed through the Well-man Corporation that the fibers did in fact belong in a carpet made by the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also determined that fibers with the specific cross sectional pattern of the collected fibers were produced only between the years of 1967 and 1974</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then determined that West Point Pepperell Corporation of Dalton, GA produced a carpet line called “Luxaire” and one of the colors was “English Olive” </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bability Reading on Pg. 79-80 in Criminalistics Book</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ver 40 charts and 350 Photos educated the jury on the probability that the fibers were belonging to William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jury handed down a unanimous guilty verdict on all charges after all evidence was presented against William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6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rocess of identification only ends when a piece of evidence has been individualized to ONE correct sourc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ysical Properties: weight, color, boiling point, melting point, smell, tast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emical Properties: reactivity, formation of a new substa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xample: in the crime lab, heroin produces a color change when combines with Marquis reagent, positively identifying heroi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ich properties to be observed depends on the substance. Logic requires that if a piece of evidence can be assigned a numerical value, then it must be assigned using the metric system.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6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tric System:</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ir Step</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y Has Dirty Underwear don’t check mine mis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 based on the base unit of 1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Useful Conversion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nch = 2.54 cm</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m = 39.37 inch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pound = 453.6 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L = 1.06 quart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Kg = 2.2 pound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ure and Isolate the CS</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officer to respond is responsible for securing and isolating the crime scene</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times the exclusion of unauthorized personnel is difficul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mes of a violent nature require more than one officer on most occasion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rst Steps: Lead Investigator</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rmine boundaries</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perpetrator’s entry and exit</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cument and photograph obvious evidence</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alkthrough</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strategy for completing the investig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71"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mperature:</a:t>
            </a:r>
            <a:endParaRPr b="0" lang="en-US" sz="21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ting and boiling points are lead indicators of the identity of unknown substance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hrenheit – standard unit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 – metric unit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Words: Melting Point, Freezing Point, Boiling Point, Absolute Zero</a:t>
            </a:r>
            <a:endParaRPr b="0" lang="en-US" sz="2000" spc="-1" strike="noStrike">
              <a:solidFill>
                <a:srgbClr val="ffffff"/>
              </a:solidFill>
              <a:latin typeface="Arial"/>
            </a:endParaRPr>
          </a:p>
          <a:p>
            <a:pPr marL="337680" indent="-3376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eight and Mass:</a:t>
            </a:r>
            <a:endParaRPr b="0" lang="en-US" sz="21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the force of gravity acting on a mas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s- the amount of matter that an object contains</a:t>
            </a:r>
            <a:endParaRPr b="0" lang="en-US" sz="2000" spc="-1" strike="noStrike">
              <a:solidFill>
                <a:srgbClr val="ffffff"/>
              </a:solidFill>
              <a:latin typeface="Arial"/>
            </a:endParaRPr>
          </a:p>
          <a:p>
            <a:pPr lvl="2" marL="1130040" indent="-2246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s is independent on the location and or force of gravity</a:t>
            </a:r>
            <a:endParaRPr b="0" lang="en-US" sz="2000" spc="-1" strike="noStrike">
              <a:solidFill>
                <a:srgbClr val="ffffff"/>
              </a:solidFill>
              <a:latin typeface="Arial"/>
            </a:endParaRPr>
          </a:p>
          <a:p>
            <a:pPr lvl="2" marL="1130040" indent="-2246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if you went into outer space, you would not have weight, but you would have ma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7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nsity:</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formula above the doo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nsive property- the same regardless of the size of the substance</a:t>
            </a:r>
            <a:endParaRPr b="0" lang="en-US" sz="22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ractive Index:</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ght can travel in a wave pattern at a speed of 300 million meters per secon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ending of a light wave due to a change in velocity is called refractio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tio of the velocity of light to that of any medium is refractive index</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ractive Index = velocity of light in vacuum / velocity of light in mediu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mon Densities </a:t>
            </a:r>
            <a:endParaRPr b="0" lang="en-US" sz="3400" spc="-1" strike="noStrike">
              <a:solidFill>
                <a:srgbClr val="ffffff"/>
              </a:solidFill>
              <a:latin typeface="Arial"/>
            </a:endParaRPr>
          </a:p>
        </p:txBody>
      </p:sp>
      <p:sp>
        <p:nvSpPr>
          <p:cNvPr id="175" name="Rectangle 117"/>
          <p:cNvSpPr/>
          <p:nvPr/>
        </p:nvSpPr>
        <p:spPr>
          <a:xfrm>
            <a:off x="0" y="17812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76" name=""/>
          <p:cNvGraphicFramePr/>
          <p:nvPr/>
        </p:nvGraphicFramePr>
        <p:xfrm>
          <a:off x="1447920" y="1371600"/>
          <a:ext cx="6553080" cy="4754520"/>
        </p:xfrm>
        <a:graphic>
          <a:graphicData uri="http://schemas.openxmlformats.org/drawingml/2006/table">
            <a:tbl>
              <a:tblPr/>
              <a:tblGrid>
                <a:gridCol w="4008240"/>
                <a:gridCol w="2544840"/>
              </a:tblGrid>
              <a:tr h="39672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nsities of Common Materi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b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nsity (g/m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lv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r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so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rcu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i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lass (Window Gra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 </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 2.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fractive Index</a:t>
            </a:r>
            <a:endParaRPr b="0" lang="en-US" sz="3400" spc="-1" strike="noStrike">
              <a:solidFill>
                <a:srgbClr val="ffffff"/>
              </a:solidFill>
              <a:latin typeface="Arial"/>
            </a:endParaRPr>
          </a:p>
        </p:txBody>
      </p:sp>
      <p:pic>
        <p:nvPicPr>
          <p:cNvPr id="178" name="Picture 5" descr="glass_of_water"/>
          <p:cNvPicPr/>
          <p:nvPr/>
        </p:nvPicPr>
        <p:blipFill>
          <a:blip r:embed="rId1"/>
          <a:stretch/>
        </p:blipFill>
        <p:spPr>
          <a:xfrm>
            <a:off x="3443400" y="1584360"/>
            <a:ext cx="3133440" cy="495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ractive Index:</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ystalline Solids – will have two refractive indices depending on the direction in which light enters the substanc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produce a double image</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ubic solids produce a phenomenon known as double refraction</a:t>
            </a:r>
            <a:endParaRPr b="0" lang="en-US" sz="19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orphous Solids – no distinctive pattern or number of refractive indic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a glass prism, the colors of light can be spread out into the ultraviolet spectrum</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is is known as dispersio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lass that is shattered can be used to link a suspect to a crime scen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example, if a suspect has shattered glass lodged into his/her shoes, and the glass fits into the reconstructed piece of glass from the CS, then the suspect was at one time at the C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r…headlight glass found at the scene of an automobile accident can be used to link a driver to the hit and run accident</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lass is a hard, brittle, amorphous solid made by combining silicon oxides and metal oxides and heated to melting and not allowed to crystalliz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on Glass Typ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 and Bottle Glas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nd is added to Sodium Carbonate and melted, then Calcium Oxide is added to eliminate solubility and allowed to cool until is forms into glas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yrex: automobile headlight and heat resistant glas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 Boron oxide to bottle glass prior to melting and it will result in borosilicate glass…or in other words: baking dishes or laboratory glasswar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mpered Glas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lass is made by continuous heating, cooling, and heating until the glass is stronge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mpered glass will not shatter when broken, but will fragment or “dice” into small squares without splintering</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empered glass is used in automobiles (side and rear windows)</a:t>
            </a:r>
            <a:endParaRPr b="0" lang="en-US" sz="19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minated Glas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lass is used in the windshields of all cars in the United Stat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d by sandwiching a piece of plastic film between two panels of glas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blems with Glass</a:t>
            </a:r>
            <a:endParaRPr b="0" lang="en-US" sz="3400" spc="-1" strike="noStrike">
              <a:solidFill>
                <a:srgbClr val="ffffff"/>
              </a:solidFill>
              <a:latin typeface="Arial"/>
            </a:endParaRPr>
          </a:p>
        </p:txBody>
      </p:sp>
      <p:sp>
        <p:nvSpPr>
          <p:cNvPr id="188"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st glass fragments that are presented to a criminalist are too small or fragmentary that they can not be identified</a:t>
            </a:r>
            <a:endParaRPr b="0" lang="en-US" sz="2100" spc="-1" strike="noStrike">
              <a:solidFill>
                <a:srgbClr val="ffffff"/>
              </a:solidFill>
              <a:latin typeface="Arial"/>
            </a:endParaRPr>
          </a:p>
          <a:p>
            <a:pPr marL="341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89" name="Picture 6" descr="1918164449_c6ff1e1dd1"/>
          <p:cNvPicPr/>
          <p:nvPr/>
        </p:nvPicPr>
        <p:blipFill>
          <a:blip r:embed="rId1"/>
          <a:stretch/>
        </p:blipFill>
        <p:spPr>
          <a:xfrm>
            <a:off x="5181480" y="1752480"/>
            <a:ext cx="3619800" cy="3571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ecke Line</a:t>
            </a: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apparent halo around a particle in liquid of a different refractive inde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is this importan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rtain types of glass give off specific Becke Lin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halo disappears when the particle and the fluid have similar refractive indice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3"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cord the Crime Scene</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graphs, sketches, not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4" name="Picture 5" descr="bedroom"/>
          <p:cNvPicPr/>
          <p:nvPr/>
        </p:nvPicPr>
        <p:blipFill>
          <a:blip r:embed="rId1"/>
          <a:stretch/>
        </p:blipFill>
        <p:spPr>
          <a:xfrm>
            <a:off x="5086440" y="2835360"/>
            <a:ext cx="3700440" cy="245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Fractures</a:t>
            </a:r>
            <a:endParaRPr b="0" lang="en-US" sz="3400" spc="-1" strike="noStrike">
              <a:solidFill>
                <a:srgbClr val="ffffff"/>
              </a:solidFill>
              <a:latin typeface="Arial"/>
            </a:endParaRPr>
          </a:p>
        </p:txBody>
      </p:sp>
      <p:sp>
        <p:nvSpPr>
          <p:cNvPr id="19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enetration of ordinary window glass by a projectile, it produces a fracture pattern that cracks and radiates outward and encircle the hol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diating lines are called radial fract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centric circles are called concentric fract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a high speed projectile penetrates glass, an almost identical pattern flows around the entry point with a wider hole at the exit sid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key to determining the direction of a sho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isting Fractures</a:t>
            </a:r>
            <a:endParaRPr b="0" lang="en-US" sz="3400" spc="-1" strike="noStrike">
              <a:solidFill>
                <a:srgbClr val="ffffff"/>
              </a:solidFill>
              <a:latin typeface="Arial"/>
            </a:endParaRPr>
          </a:p>
        </p:txBody>
      </p:sp>
      <p:sp>
        <p:nvSpPr>
          <p:cNvPr id="195"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two shots were fired, then the second fracture will stop when it comes in contact with the previous fracture</a:t>
            </a:r>
            <a:endParaRPr b="0" lang="en-US" sz="2100" spc="-1" strike="noStrike">
              <a:solidFill>
                <a:srgbClr val="ffffff"/>
              </a:solidFill>
              <a:latin typeface="Arial"/>
            </a:endParaRPr>
          </a:p>
          <a:p>
            <a:pPr marL="341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96" name="Picture 6" descr="SafetyGlassAnswer%5B800x533%5D"/>
          <p:cNvPicPr/>
          <p:nvPr/>
        </p:nvPicPr>
        <p:blipFill>
          <a:blip r:embed="rId1"/>
          <a:stretch/>
        </p:blipFill>
        <p:spPr>
          <a:xfrm>
            <a:off x="380880" y="1600200"/>
            <a:ext cx="4648320" cy="3605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il</a:t>
            </a: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forensic purposes, soil is any disintegrated surface material that is on or near the earth’s surfa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power microscopic examination of soil will reveal the presence of plant and animals materials as well as artificial debri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il identification requires the aid of a person specialized in forensic geology or general geolo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mineral is a naturally occurring crystal, whose physical properties are key to its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nsity-gradient tube – a glass tube filled from bottom to top with liquids of successively lighter densities used to determine the density distribution of soil</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Microscope</a:t>
            </a:r>
            <a:endParaRPr b="0" lang="en-US" sz="3400" spc="-1" strike="noStrike">
              <a:solidFill>
                <a:srgbClr val="ffffff"/>
              </a:solidFill>
              <a:latin typeface="Arial"/>
            </a:endParaRPr>
          </a:p>
        </p:txBody>
      </p:sp>
      <p:sp>
        <p:nvSpPr>
          <p:cNvPr id="20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irtual Image: can only be seen through a lens and can not be seen with the naked ey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al Image: can be seen directly, like the image on a TV screen or Movie Scree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bjective Lens: the lower lens that the object is placed und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yepiece Lens: the lens used for viewing</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icroscope Types</a:t>
            </a:r>
            <a:endParaRPr b="0" lang="en-US" sz="3400" spc="-1" strike="noStrike">
              <a:solidFill>
                <a:srgbClr val="ffffff"/>
              </a:solidFill>
              <a:latin typeface="Arial"/>
            </a:endParaRPr>
          </a:p>
        </p:txBody>
      </p:sp>
      <p:sp>
        <p:nvSpPr>
          <p:cNvPr id="20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ompound microscope: has variable magnifications up to 1000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omparison microscope: two compound scopes used for dual imagery</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ereoscope: also known as a dissecting scope, magnification up to 40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canning Microscope: up to 100,000x magn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icro spectrophotometer: used to identify a substance through light dispers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
          <p:cNvPicPr/>
          <p:nvPr/>
        </p:nvPicPr>
        <p:blipFill>
          <a:blip r:embed="rId1"/>
          <a:stretch/>
        </p:blipFill>
        <p:spPr>
          <a:xfrm>
            <a:off x="1143000" y="152280"/>
            <a:ext cx="7391520" cy="5195880"/>
          </a:xfrm>
          <a:prstGeom prst="rect">
            <a:avLst/>
          </a:prstGeom>
          <a:ln w="0">
            <a:noFill/>
          </a:ln>
        </p:spPr>
      </p:pic>
      <p:sp>
        <p:nvSpPr>
          <p:cNvPr id="206" name="Text Box 6"/>
          <p:cNvSpPr/>
          <p:nvPr/>
        </p:nvSpPr>
        <p:spPr>
          <a:xfrm>
            <a:off x="1219320" y="5410080"/>
            <a:ext cx="7162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Figure 7–2  The principle of the compound microscope. The passage of light through two lenses forms the virtual image of the object seen by the eye.</a:t>
            </a:r>
            <a:r>
              <a:rPr b="1" lang="en-US" sz="2400" spc="-1" strike="noStrike">
                <a:solidFill>
                  <a:srgbClr val="c0c0c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ound Scope</a:t>
            </a:r>
            <a:endParaRPr b="0" lang="en-US" sz="3400" spc="-1" strike="noStrike">
              <a:solidFill>
                <a:srgbClr val="ffffff"/>
              </a:solidFill>
              <a:latin typeface="Arial"/>
            </a:endParaRPr>
          </a:p>
        </p:txBody>
      </p:sp>
      <p:sp>
        <p:nvSpPr>
          <p:cNvPr id="20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ase: support upon which the instrument rest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m: C shaped upright structure that holds the eyepie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ge: horizontal plate on which the specimen are plac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arse Adjustment: raises and lowers the stag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ne Adjustment: moves the stage at a much smaller magnitude</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
          <p:cNvPicPr/>
          <p:nvPr/>
        </p:nvPicPr>
        <p:blipFill>
          <a:blip r:embed="rId1"/>
          <a:stretch/>
        </p:blipFill>
        <p:spPr>
          <a:xfrm>
            <a:off x="1219320" y="306360"/>
            <a:ext cx="5991120" cy="4965840"/>
          </a:xfrm>
          <a:prstGeom prst="rect">
            <a:avLst/>
          </a:prstGeom>
          <a:ln w="0">
            <a:noFill/>
          </a:ln>
        </p:spPr>
      </p:pic>
      <p:sp>
        <p:nvSpPr>
          <p:cNvPr id="210" name="Text Box 6"/>
          <p:cNvSpPr/>
          <p:nvPr/>
        </p:nvSpPr>
        <p:spPr>
          <a:xfrm>
            <a:off x="1219320" y="5334120"/>
            <a:ext cx="77724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Figure 7–3(b)  Optics of the compound microscope. Courtesy Leica Microsystems, Buffalo, N.Y., www.leica-microsystems.com.</a:t>
            </a:r>
            <a:r>
              <a:rPr b="1" lang="en-US" sz="2400" spc="-1" strike="noStrike">
                <a:solidFill>
                  <a:srgbClr val="c0c0c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
          <p:cNvPicPr/>
          <p:nvPr/>
        </p:nvPicPr>
        <p:blipFill>
          <a:blip r:embed="rId1"/>
          <a:stretch/>
        </p:blipFill>
        <p:spPr>
          <a:xfrm>
            <a:off x="1066680" y="228600"/>
            <a:ext cx="7086600" cy="5029200"/>
          </a:xfrm>
          <a:prstGeom prst="rect">
            <a:avLst/>
          </a:prstGeom>
          <a:ln w="0">
            <a:noFill/>
          </a:ln>
        </p:spPr>
      </p:pic>
      <p:sp>
        <p:nvSpPr>
          <p:cNvPr id="212" name="Text Box 6"/>
          <p:cNvSpPr/>
          <p:nvPr/>
        </p:nvSpPr>
        <p:spPr>
          <a:xfrm>
            <a:off x="1127160" y="5334120"/>
            <a:ext cx="794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Figure 7–7  Schematic diagram of a stereoscopic microscope. This microscope is actually two separate monocular microscopes, each with its own set of lenses except for the lowest objective lens, which is common to both microsc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otography</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me scene must be unalter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injured parties involved, nothing can be m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evidence has been moved, it should be noted in the CS report, but not placed into the CS for photograph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hotograph must be taken from several ang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ad body is in the CS, it must be photographed as well as its position in the room or location</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body is removed, underneath the body should be photograph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graph all pieces of physical evidence from several ang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ize of an item is significant, a ruler should be inserted into the pi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5" descr=""/>
          <p:cNvPicPr/>
          <p:nvPr/>
        </p:nvPicPr>
        <p:blipFill>
          <a:blip r:embed="rId1"/>
          <a:stretch/>
        </p:blipFill>
        <p:spPr>
          <a:xfrm>
            <a:off x="10666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yepiece Types</a:t>
            </a:r>
            <a:endParaRPr b="0" lang="en-US" sz="3400" spc="-1" strike="noStrike">
              <a:solidFill>
                <a:srgbClr val="ffffff"/>
              </a:solidFill>
              <a:latin typeface="Arial"/>
            </a:endParaRPr>
          </a:p>
        </p:txBody>
      </p:sp>
      <p:sp>
        <p:nvSpPr>
          <p:cNvPr id="21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nocular: only one eyepie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inocular: two eyepiece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eld of View</a:t>
            </a:r>
            <a:endParaRPr b="0" lang="en-US" sz="3400" spc="-1" strike="noStrike">
              <a:solidFill>
                <a:srgbClr val="ffffff"/>
              </a:solidFill>
              <a:latin typeface="Arial"/>
            </a:endParaRPr>
          </a:p>
        </p:txBody>
      </p:sp>
      <p:sp>
        <p:nvSpPr>
          <p:cNvPr id="21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rt with the lowest magn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y would you do this?</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ize of the specimen in view is known as the field of view</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pth of focus: defines the thickness of the specimen, areas below or above the specimen can be blurred due to over magnification or under magn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th of focus decreases as magnification increa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canning Electron Microscope</a:t>
            </a:r>
            <a:endParaRPr b="0" lang="en-US" sz="3400" spc="-1" strike="noStrike">
              <a:solidFill>
                <a:srgbClr val="ffffff"/>
              </a:solidFill>
              <a:latin typeface="Arial"/>
            </a:endParaRPr>
          </a:p>
        </p:txBody>
      </p:sp>
      <p:sp>
        <p:nvSpPr>
          <p:cNvPr id="21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es not use light to view the specim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is microscope uses a beam of electrons to illuminate the specim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specimen is seen on a projected cathode ray tube screen (TV Scre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depth of focus is some 300 times better than a compound scope</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forensics, this is used to determine if a person has recently fired a gun</a:t>
            </a:r>
            <a:endParaRPr b="0" lang="en-US" sz="19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SR will be found in the skin cells taken from a suspect’s han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scanning electron microscopy, the GSR will be magnified to the point of counting individual crystalline structures </a:t>
            </a:r>
            <a:endParaRPr b="0" lang="en-US" sz="1800" spc="-1" strike="noStrike">
              <a:solidFill>
                <a:srgbClr val="ffffff"/>
              </a:solidFill>
              <a:latin typeface="Arial"/>
            </a:endParaRPr>
          </a:p>
          <a:p>
            <a:pPr lvl="2" marL="1141560" indent="-2271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llows for the investigator to determine how tight the grip was on the gun</a:t>
            </a:r>
            <a:endParaRPr b="0" lang="en-US" sz="1800" spc="-1" strike="noStrike">
              <a:solidFill>
                <a:srgbClr val="ffffff"/>
              </a:solidFill>
              <a:latin typeface="Arial"/>
            </a:endParaRPr>
          </a:p>
          <a:p>
            <a:pPr lvl="3" marL="1598760" indent="-22716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much GSR is present indicates the amount of the gun in contact with the hand</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and its use in forensics</a:t>
            </a:r>
            <a:endParaRPr b="0" lang="en-US" sz="3400" spc="-1" strike="noStrike">
              <a:solidFill>
                <a:srgbClr val="ffffff"/>
              </a:solidFill>
              <a:latin typeface="Arial"/>
            </a:endParaRPr>
          </a:p>
        </p:txBody>
      </p:sp>
      <p:sp>
        <p:nvSpPr>
          <p:cNvPr id="22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though hair is an important tool, it is not yet possible to link a hair to a single person or animal</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ir is considered class evidence…why not individual?</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ypothesis: No two hairs on a person’s body are exactly the same…similar, but not identical</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ir does play an important role as physical evid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 as evidence</a:t>
            </a:r>
            <a:endParaRPr b="0" lang="en-US" sz="3400" spc="-1" strike="noStrike">
              <a:solidFill>
                <a:srgbClr val="ffffff"/>
              </a:solidFill>
              <a:latin typeface="Arial"/>
            </a:endParaRPr>
          </a:p>
        </p:txBody>
      </p:sp>
      <p:sp>
        <p:nvSpPr>
          <p:cNvPr id="223"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hair is properly collected at the CS, then it can be used in conjunction with reference samples to produce a positive match</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ir is used mostly to prove or disprove a person’s location in association to a crime</a:t>
            </a:r>
            <a:endParaRPr b="0" lang="en-US" sz="2000" spc="-1" strike="noStrike">
              <a:solidFill>
                <a:srgbClr val="ffffff"/>
              </a:solidFill>
              <a:latin typeface="Arial"/>
            </a:endParaRPr>
          </a:p>
        </p:txBody>
      </p:sp>
      <p:pic>
        <p:nvPicPr>
          <p:cNvPr id="224" name="Picture 6" descr="beach%20fabric%20Fox"/>
          <p:cNvPicPr/>
          <p:nvPr/>
        </p:nvPicPr>
        <p:blipFill>
          <a:blip r:embed="rId1"/>
          <a:stretch/>
        </p:blipFill>
        <p:spPr>
          <a:xfrm>
            <a:off x="4876920" y="1600200"/>
            <a:ext cx="4038480" cy="3657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is Hair?</a:t>
            </a:r>
            <a:endParaRPr b="0" lang="en-US" sz="3400" spc="-1" strike="noStrike">
              <a:solidFill>
                <a:srgbClr val="ffffff"/>
              </a:solidFill>
              <a:latin typeface="Arial"/>
            </a:endParaRPr>
          </a:p>
        </p:txBody>
      </p:sp>
      <p:sp>
        <p:nvSpPr>
          <p:cNvPr id="22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 appendage of the skin that grows out of a hair follicl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length of hair extends from the root or bulb embedded in the follicle, continues into a shaft and terminates at a tip en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haft of the hair is of the most interest to a criminalis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de of three distinct layer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ticl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rtex</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ulla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uticle</a:t>
            </a:r>
            <a:endParaRPr b="0" lang="en-US" sz="3400" spc="-1" strike="noStrike">
              <a:solidFill>
                <a:srgbClr val="ffffff"/>
              </a:solidFill>
              <a:latin typeface="Arial"/>
            </a:endParaRPr>
          </a:p>
        </p:txBody>
      </p:sp>
      <p:sp>
        <p:nvSpPr>
          <p:cNvPr id="22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cale structure covering the exterior of the hai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wo features of hair are attributed to the cuticl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istance to chemical decomposi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bility to maintain structural features for a long period of time</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med by overlapping scales that always point to the tip of the hai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cales are formed from specialized keratinized (hardened) cells flattened in process of exiting the follicle</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uticle</a:t>
            </a:r>
            <a:endParaRPr b="0" lang="en-US" sz="3400" spc="-1" strike="noStrike">
              <a:solidFill>
                <a:srgbClr val="ffffff"/>
              </a:solidFill>
              <a:latin typeface="Arial"/>
            </a:endParaRPr>
          </a:p>
        </p:txBody>
      </p:sp>
      <p:sp>
        <p:nvSpPr>
          <p:cNvPr id="23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milar in appearance to shingles on a roof (for most animal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articular cuticle pattern is useful in species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umans do not follow the shingle appearance tren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o view cuticle pattern: embed a hair into clear fingernail polish and remove the hair after it has dried</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ast under a compound scop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uman v. Other Animals</a:t>
            </a:r>
            <a:endParaRPr b="0" lang="en-US" sz="3400" spc="-1" strike="noStrike">
              <a:solidFill>
                <a:srgbClr val="ffffff"/>
              </a:solidFill>
              <a:latin typeface="Arial"/>
            </a:endParaRPr>
          </a:p>
        </p:txBody>
      </p:sp>
      <p:pic>
        <p:nvPicPr>
          <p:cNvPr id="232" name="Picture 12" descr="hair_cuticle_cell_85781"/>
          <p:cNvPicPr/>
          <p:nvPr/>
        </p:nvPicPr>
        <p:blipFill>
          <a:blip r:embed="rId1"/>
          <a:stretch/>
        </p:blipFill>
        <p:spPr>
          <a:xfrm>
            <a:off x="1219320" y="2438280"/>
            <a:ext cx="3124080" cy="2975040"/>
          </a:xfrm>
          <a:prstGeom prst="rect">
            <a:avLst/>
          </a:prstGeom>
          <a:ln w="0">
            <a:noFill/>
          </a:ln>
        </p:spPr>
      </p:pic>
      <p:pic>
        <p:nvPicPr>
          <p:cNvPr id="233" name="Picture 17" descr="BirthdayCat"/>
          <p:cNvPicPr/>
          <p:nvPr/>
        </p:nvPicPr>
        <p:blipFill>
          <a:blip r:embed="rId2"/>
          <a:stretch/>
        </p:blipFill>
        <p:spPr>
          <a:xfrm>
            <a:off x="5105520" y="4191120"/>
            <a:ext cx="3657600" cy="2442960"/>
          </a:xfrm>
          <a:prstGeom prst="rect">
            <a:avLst/>
          </a:prstGeom>
          <a:ln w="0">
            <a:noFill/>
          </a:ln>
        </p:spPr>
      </p:pic>
      <p:pic>
        <p:nvPicPr>
          <p:cNvPr id="234" name="Picture 19" descr="Human_Hair3"/>
          <p:cNvPicPr/>
          <p:nvPr/>
        </p:nvPicPr>
        <p:blipFill>
          <a:blip r:embed="rId3"/>
          <a:stretch/>
        </p:blipFill>
        <p:spPr>
          <a:xfrm>
            <a:off x="5105520" y="1600200"/>
            <a:ext cx="366372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etches</a:t>
            </a:r>
            <a:endParaRPr b="0" lang="en-US" sz="21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 Sketch- an accurate depiction of scene dimensions and location of all items of interes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 Sketch- drawn with care and is aesthetic</a:t>
            </a:r>
            <a:endParaRPr b="0" lang="en-US" sz="2000" spc="-1" strike="noStrike">
              <a:solidFill>
                <a:srgbClr val="ffffff"/>
              </a:solidFill>
              <a:latin typeface="Arial"/>
            </a:endParaRPr>
          </a:p>
          <a:p>
            <a:pPr lvl="2" marL="1141560" indent="-227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ed with the aid of templates</a:t>
            </a:r>
            <a:endParaRPr b="0" lang="en-US" sz="2000" spc="-1" strike="noStrike">
              <a:solidFill>
                <a:srgbClr val="ffffff"/>
              </a:solidFill>
              <a:latin typeface="Arial"/>
            </a:endParaRPr>
          </a:p>
          <a:p>
            <a:pPr lvl="2" marL="1141560" indent="-227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Include:</a:t>
            </a:r>
            <a:endParaRPr b="0" lang="en-US" sz="20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ion</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im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at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cident</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ketched By</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asurement Scal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ey</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l Entry and Exit opportunities</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rth Arrow</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rtex</a:t>
            </a:r>
            <a:endParaRPr b="0" lang="en-US" sz="3400" spc="-1" strike="noStrike">
              <a:solidFill>
                <a:srgbClr val="ffffff"/>
              </a:solidFill>
              <a:latin typeface="Arial"/>
            </a:endParaRPr>
          </a:p>
        </p:txBody>
      </p:sp>
      <p:sp>
        <p:nvSpPr>
          <p:cNvPr id="23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ain body of the hair shaft</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tained within the cuticle lay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de up of spindle shaped cortical cell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parallel to the length of the hair</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st of the hair color is located within the corte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or, shape and distribution of these cells provide criminalists important comparison point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rtex</a:t>
            </a:r>
            <a:endParaRPr b="0" lang="en-US" sz="3400" spc="-1" strike="noStrike">
              <a:solidFill>
                <a:srgbClr val="ffffff"/>
              </a:solidFill>
              <a:latin typeface="Arial"/>
            </a:endParaRPr>
          </a:p>
        </p:txBody>
      </p:sp>
      <p:pic>
        <p:nvPicPr>
          <p:cNvPr id="238" name="Picture 10" descr="scan0129"/>
          <p:cNvPicPr/>
          <p:nvPr/>
        </p:nvPicPr>
        <p:blipFill>
          <a:blip r:embed="rId1"/>
          <a:stretch/>
        </p:blipFill>
        <p:spPr>
          <a:xfrm>
            <a:off x="1143000" y="2133720"/>
            <a:ext cx="1943280" cy="3429000"/>
          </a:xfrm>
          <a:prstGeom prst="rect">
            <a:avLst/>
          </a:prstGeom>
          <a:ln w="0">
            <a:noFill/>
          </a:ln>
        </p:spPr>
      </p:pic>
      <p:pic>
        <p:nvPicPr>
          <p:cNvPr id="239" name="Picture 12" descr="stfmel70"/>
          <p:cNvPicPr/>
          <p:nvPr/>
        </p:nvPicPr>
        <p:blipFill>
          <a:blip r:embed="rId2"/>
          <a:stretch/>
        </p:blipFill>
        <p:spPr>
          <a:xfrm>
            <a:off x="3581280" y="228600"/>
            <a:ext cx="4391280" cy="2924280"/>
          </a:xfrm>
          <a:prstGeom prst="rect">
            <a:avLst/>
          </a:prstGeom>
          <a:ln w="0">
            <a:noFill/>
          </a:ln>
        </p:spPr>
      </p:pic>
      <p:pic>
        <p:nvPicPr>
          <p:cNvPr id="240" name="Picture 14" descr="volosnya84ce8e37jf0"/>
          <p:cNvPicPr/>
          <p:nvPr/>
        </p:nvPicPr>
        <p:blipFill>
          <a:blip r:embed="rId3"/>
          <a:stretch/>
        </p:blipFill>
        <p:spPr>
          <a:xfrm>
            <a:off x="3809880" y="3352680"/>
            <a:ext cx="3905280" cy="3200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ellular column running through the center of the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any animals, the medulla take up over half of the diameter of the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ullary Index: measures the diameter of the medulla in ratio to the diameter of the hair as a whol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mans have approx 1/3</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animals have ½ or greater</a:t>
            </a:r>
            <a:endParaRPr b="0" lang="en-US" sz="22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ulla patterns vary among individuals within a speci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all hairs have medulla, and when they do, the amount can vary greatly</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4"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3 classifications:</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ntinuo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a:t>
            </a:r>
            <a:endParaRPr b="0" lang="en-US" sz="2000" spc="-1" strike="noStrike">
              <a:solidFill>
                <a:srgbClr val="ffffff"/>
              </a:solidFill>
              <a:latin typeface="Arial"/>
            </a:endParaRPr>
          </a:p>
        </p:txBody>
      </p:sp>
      <p:pic>
        <p:nvPicPr>
          <p:cNvPr id="245" name="Picture 6" descr="image023"/>
          <p:cNvPicPr/>
          <p:nvPr/>
        </p:nvPicPr>
        <p:blipFill>
          <a:blip r:embed="rId1"/>
          <a:stretch/>
        </p:blipFill>
        <p:spPr>
          <a:xfrm>
            <a:off x="4572000" y="2209680"/>
            <a:ext cx="3705120" cy="2819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7"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hape:</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nd most animals have a nearly perfect cylindrical medulla patter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imals have a patterned shape</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s: similar to a string of pearls</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r: spherical cells occupying the entire shaft of the hair</a:t>
            </a:r>
            <a:endParaRPr b="0" lang="en-US" sz="2000" spc="-1" strike="noStrike">
              <a:solidFill>
                <a:srgbClr val="ffffff"/>
              </a:solidFill>
              <a:latin typeface="Arial"/>
            </a:endParaRPr>
          </a:p>
        </p:txBody>
      </p:sp>
      <p:pic>
        <p:nvPicPr>
          <p:cNvPr id="248" name="Picture 7" descr="4"/>
          <p:cNvPicPr/>
          <p:nvPr/>
        </p:nvPicPr>
        <p:blipFill>
          <a:blip r:embed="rId1"/>
          <a:stretch/>
        </p:blipFill>
        <p:spPr>
          <a:xfrm>
            <a:off x="4876920" y="685800"/>
            <a:ext cx="1904760" cy="5952960"/>
          </a:xfrm>
          <a:prstGeom prst="rect">
            <a:avLst/>
          </a:prstGeom>
          <a:ln w="0">
            <a:noFill/>
          </a:ln>
        </p:spPr>
      </p:pic>
      <p:pic>
        <p:nvPicPr>
          <p:cNvPr id="249" name="Picture 9" descr="deer%20hair200"/>
          <p:cNvPicPr/>
          <p:nvPr/>
        </p:nvPicPr>
        <p:blipFill>
          <a:blip r:embed="rId2"/>
          <a:stretch/>
        </p:blipFill>
        <p:spPr>
          <a:xfrm>
            <a:off x="7010280" y="685800"/>
            <a:ext cx="1743120" cy="5924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 Model</a:t>
            </a:r>
            <a:endParaRPr b="0" lang="en-US" sz="3400" spc="-1" strike="noStrike">
              <a:solidFill>
                <a:srgbClr val="ffffff"/>
              </a:solidFill>
              <a:latin typeface="Arial"/>
            </a:endParaRPr>
          </a:p>
        </p:txBody>
      </p:sp>
      <p:sp>
        <p:nvSpPr>
          <p:cNvPr id="251"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nk of hair as a wooden pencil</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 = Cutic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 = Corte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 = Medulla</a:t>
            </a:r>
            <a:endParaRPr b="0" lang="en-US" sz="2000" spc="-1" strike="noStrike">
              <a:solidFill>
                <a:srgbClr val="ffffff"/>
              </a:solidFill>
              <a:latin typeface="Arial"/>
            </a:endParaRPr>
          </a:p>
        </p:txBody>
      </p:sp>
      <p:pic>
        <p:nvPicPr>
          <p:cNvPr id="252" name="Picture 6" descr="Benjamin_Ball_pencil_ends"/>
          <p:cNvPicPr/>
          <p:nvPr/>
        </p:nvPicPr>
        <p:blipFill>
          <a:blip r:embed="rId1"/>
          <a:stretch/>
        </p:blipFill>
        <p:spPr>
          <a:xfrm>
            <a:off x="990720" y="2286000"/>
            <a:ext cx="413388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oot</a:t>
            </a:r>
            <a:endParaRPr b="0" lang="en-US" sz="3400" spc="-1" strike="noStrike">
              <a:solidFill>
                <a:srgbClr val="ffffff"/>
              </a:solidFill>
              <a:latin typeface="Arial"/>
            </a:endParaRPr>
          </a:p>
        </p:txBody>
      </p:sp>
      <p:sp>
        <p:nvSpPr>
          <p:cNvPr id="25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llicular Tag – translucent piece of tissue surrounding the hair shaft near the roo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nly part of the hair that contains any substantial amount of DNA</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uman head hair grows in three distinct stag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gen phase – initial growth phase in which the hair follicle is actively producing hai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tagen phase – transition stage between anagen and telogen phas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logen phase – final phase in which hair naturally falls out of the he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se Study</a:t>
            </a:r>
            <a:endParaRPr b="0" lang="en-US" sz="3400" spc="-1" strike="noStrike">
              <a:solidFill>
                <a:srgbClr val="ffffff"/>
              </a:solidFill>
              <a:latin typeface="Arial"/>
            </a:endParaRPr>
          </a:p>
        </p:txBody>
      </p:sp>
      <p:sp>
        <p:nvSpPr>
          <p:cNvPr id="25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ge 201, Criminalistics Book</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ntral Park Jogger Cas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you determine what part of the body this hair is from?</a:t>
            </a:r>
            <a:endParaRPr b="0" lang="en-US" sz="3400" spc="-1" strike="noStrike">
              <a:solidFill>
                <a:srgbClr val="ffffff"/>
              </a:solidFill>
              <a:latin typeface="Arial"/>
            </a:endParaRPr>
          </a:p>
        </p:txBody>
      </p:sp>
      <p:sp>
        <p:nvSpPr>
          <p:cNvPr id="25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alp hairs generally are narrow in diameter and have uniform pigment dispers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bic hairs are short, curly and have much variation in shaft diame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ial and other body hair is usually coarse and triangular in cross sec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the racial origin of hair be determined?</a:t>
            </a: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st of the tim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easy to determine between Caucasian and African descendent hai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hair types are not so easily separ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pic>
        <p:nvPicPr>
          <p:cNvPr id="100" name="Picture 5" descr="csr-crimescene8"/>
          <p:cNvPicPr/>
          <p:nvPr/>
        </p:nvPicPr>
        <p:blipFill>
          <a:blip r:embed="rId1"/>
          <a:stretch/>
        </p:blipFill>
        <p:spPr>
          <a:xfrm>
            <a:off x="1143000" y="114300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the age of a person be determined through a hair sample?</a:t>
            </a: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Really</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exception of infant hai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ant hair is fine, short, and has very scattered pig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s it possible to determine if hair was removed with force?</a:t>
            </a:r>
            <a:endParaRPr b="0" lang="en-US" sz="3400" spc="-1" strike="noStrike">
              <a:solidFill>
                <a:srgbClr val="ffffff"/>
              </a:solidFill>
              <a:latin typeface="Arial"/>
            </a:endParaRPr>
          </a:p>
        </p:txBody>
      </p:sp>
      <p:sp>
        <p:nvSpPr>
          <p:cNvPr id="26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a follicular tag is present, then hair was either removed by a person or comb like objec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ir without the presence of a follicular tag is indicative of natural separation from the bod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a:t>
            </a:r>
            <a:endParaRPr b="0" lang="en-US" sz="3400" spc="-1" strike="noStrike">
              <a:solidFill>
                <a:srgbClr val="ffffff"/>
              </a:solidFill>
              <a:latin typeface="Arial"/>
            </a:endParaRPr>
          </a:p>
        </p:txBody>
      </p:sp>
      <p:sp>
        <p:nvSpPr>
          <p:cNvPr id="266"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ural – derived from plant or animal material</a:t>
            </a:r>
            <a:endParaRPr b="0" lang="en-US" sz="25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the most common type of fiber found in the crime lab</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yed cotton fibers provide no clues in forensics due to its wide use</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rs in addition to fiber additives provide great clues and connections</a:t>
            </a:r>
            <a:endParaRPr b="0" lang="en-US" sz="2200" spc="-1" strike="noStrike">
              <a:solidFill>
                <a:srgbClr val="ffffff"/>
              </a:solidFill>
              <a:latin typeface="Arial"/>
            </a:endParaRPr>
          </a:p>
          <a:p>
            <a:pPr marL="337680" indent="-337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n-Made – made from synthetic polymers</a:t>
            </a:r>
            <a:endParaRPr b="0" lang="en-US" sz="25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Federal Trade Commission has required all manufacturers of man-made fibers to patent their creations</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allows for tracing back to a primary source…remember the Williams Cas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 in Forensics</a:t>
            </a:r>
            <a:endParaRPr b="0" lang="en-US" sz="3400" spc="-1" strike="noStrike">
              <a:solidFill>
                <a:srgbClr val="ffffff"/>
              </a:solidFill>
              <a:latin typeface="Arial"/>
            </a:endParaRPr>
          </a:p>
        </p:txBody>
      </p:sp>
      <p:pic>
        <p:nvPicPr>
          <p:cNvPr id="268" name="Picture 10" descr="ojglove"/>
          <p:cNvPicPr/>
          <p:nvPr/>
        </p:nvPicPr>
        <p:blipFill>
          <a:blip r:embed="rId1"/>
          <a:stretch/>
        </p:blipFill>
        <p:spPr>
          <a:xfrm>
            <a:off x="6248520" y="152280"/>
            <a:ext cx="2695320" cy="2914920"/>
          </a:xfrm>
          <a:prstGeom prst="rect">
            <a:avLst/>
          </a:prstGeom>
          <a:ln w="0">
            <a:noFill/>
          </a:ln>
        </p:spPr>
      </p:pic>
      <p:pic>
        <p:nvPicPr>
          <p:cNvPr id="269" name="Picture 12" descr="swcrimescene"/>
          <p:cNvPicPr/>
          <p:nvPr/>
        </p:nvPicPr>
        <p:blipFill>
          <a:blip r:embed="rId2"/>
          <a:stretch/>
        </p:blipFill>
        <p:spPr>
          <a:xfrm>
            <a:off x="4648320" y="3352680"/>
            <a:ext cx="4286160" cy="3210120"/>
          </a:xfrm>
          <a:prstGeom prst="rect">
            <a:avLst/>
          </a:prstGeom>
          <a:ln w="0">
            <a:noFill/>
          </a:ln>
        </p:spPr>
      </p:pic>
      <p:pic>
        <p:nvPicPr>
          <p:cNvPr id="270" name="Picture 14" descr="50x%20blue%20carpet%20fiber"/>
          <p:cNvPicPr/>
          <p:nvPr/>
        </p:nvPicPr>
        <p:blipFill>
          <a:blip r:embed="rId3"/>
          <a:stretch/>
        </p:blipFill>
        <p:spPr>
          <a:xfrm>
            <a:off x="1143000" y="121932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 Identification </a:t>
            </a:r>
            <a:endParaRPr b="0" lang="en-US" sz="3400" spc="-1" strike="noStrike">
              <a:solidFill>
                <a:srgbClr val="ffffff"/>
              </a:solidFill>
              <a:latin typeface="Arial"/>
            </a:endParaRPr>
          </a:p>
        </p:txBody>
      </p:sp>
      <p:sp>
        <p:nvSpPr>
          <p:cNvPr id="27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Reading on Pg. 220</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evidentiary value of fibers is related to the ability to identify the source of the fib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Exampl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a person was involved in a hit and run accident, and a pedestrian is hi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rson who fled the scene is traced through the presence of blood on the vehicle</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victim is missing a piece of his pan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uspect’s broken headlight contains a fiber swatch similar to that of the victi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croscopic examination proves that the suspect was indeed the person who killed the pedestr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int</a:t>
            </a:r>
            <a:endParaRPr b="0" lang="en-US" sz="3400" spc="-1" strike="noStrike">
              <a:solidFill>
                <a:srgbClr val="ffffff"/>
              </a:solidFill>
              <a:latin typeface="Arial"/>
            </a:endParaRPr>
          </a:p>
        </p:txBody>
      </p:sp>
      <p:sp>
        <p:nvSpPr>
          <p:cNvPr id="27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ur environment is literally surrounded by millions of things that have painted surfac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it is not hard at all to imagine that it is one of the most prevalent types of physical evidenc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is used as physical evidence mostly in cases of hit-and-run accidents or burglari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circumstances, it is necessary to compare two or more paints for the ultimate purpose of establishing a common origin</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ime labs can often identify the make, model, and specific paint type of automobiles simply by examining small quantities of pain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int</a:t>
            </a:r>
            <a:endParaRPr b="0" lang="en-US" sz="3400" spc="-1" strike="noStrike">
              <a:solidFill>
                <a:srgbClr val="ffffff"/>
              </a:solidFill>
              <a:latin typeface="Arial"/>
            </a:endParaRPr>
          </a:p>
        </p:txBody>
      </p:sp>
      <p:sp>
        <p:nvSpPr>
          <p:cNvPr id="27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spread onto a surface, paint forms a hard film that consists of pigments and additives suspended in a bind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igments impart colo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dings provide opaque qualitie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slurry of organic and inorganic compounds provides a specificity of color and/or properti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se properties is specific to a certain bran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paint is applied, the solvent evaporates, leaving behind a polymeric binder and any suspended pigm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utomobile Paint Coats</a:t>
            </a:r>
            <a:endParaRPr b="0" lang="en-US" sz="3400" spc="-1" strike="noStrike">
              <a:solidFill>
                <a:srgbClr val="ffffff"/>
              </a:solidFill>
              <a:latin typeface="Arial"/>
            </a:endParaRPr>
          </a:p>
        </p:txBody>
      </p:sp>
      <p:sp>
        <p:nvSpPr>
          <p:cNvPr id="27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ctrocoat Prim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first layer applied to the steel body of a ca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sts of epoxy based resin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r ranges from black to gray</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imer Surfac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ed between the electrocoat and the base co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poxy modified polyesters or urethan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functions as a coat to smooth out any imperfection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ly pigment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ght gray will be used under a pastel or light colo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Oxide will be used under a dark colo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utomobile Coats continued…</a:t>
            </a:r>
            <a:endParaRPr b="0" lang="en-US" sz="3400" spc="-1" strike="noStrike">
              <a:solidFill>
                <a:srgbClr val="ffffff"/>
              </a:solidFill>
              <a:latin typeface="Arial"/>
            </a:endParaRPr>
          </a:p>
        </p:txBody>
      </p:sp>
      <p:sp>
        <p:nvSpPr>
          <p:cNvPr id="280"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asecoat:</a:t>
            </a:r>
            <a:endParaRPr b="0" lang="en-US" sz="25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color and aesthetics </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commonly, an acrylic based polymer</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a trend towards a pearl finish or mica (glistening) pigments</a:t>
            </a:r>
            <a:endParaRPr b="0" lang="en-US" sz="2200" spc="-1" strike="noStrike">
              <a:solidFill>
                <a:srgbClr val="ffffff"/>
              </a:solidFill>
              <a:latin typeface="Arial"/>
            </a:endParaRPr>
          </a:p>
          <a:p>
            <a:pPr lvl="2" marL="1130040" indent="-2246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ca coats are filled with layers of metal to make a glittering appearance</a:t>
            </a:r>
            <a:endParaRPr b="0" lang="en-US" sz="2200" spc="-1" strike="noStrike">
              <a:solidFill>
                <a:srgbClr val="ffffff"/>
              </a:solidFill>
              <a:latin typeface="Arial"/>
            </a:endParaRPr>
          </a:p>
          <a:p>
            <a:pPr lvl="2" marL="1130040" indent="-2246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 of aluminum flakes provides a metallic luster</a:t>
            </a:r>
            <a:endParaRPr b="0" lang="en-US" sz="2200" spc="-1" strike="noStrike">
              <a:solidFill>
                <a:srgbClr val="ffffff"/>
              </a:solidFill>
              <a:latin typeface="Arial"/>
            </a:endParaRPr>
          </a:p>
          <a:p>
            <a:pPr marL="337680" indent="-337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earcoat:</a:t>
            </a:r>
            <a:endParaRPr b="0" lang="en-US" sz="25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pigmented protective coat</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ly acrylic based, but some auto makers are heading towards polyurethane coats for economic purpo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constitutes a match?</a:t>
            </a: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re is no set number of layers to match</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ch depends on uniqueness of each lay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iving much respect to color and texture</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ide variation in binder formulas provides significant information with respect to the forensic comparison of automobile finish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 government control, there is a strict enforcement of quality control for each paint color and formula</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allows for easy tracing of manufacturer and paint specific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 </a:t>
            </a:r>
            <a:endParaRPr b="0" lang="en-US" sz="3400" spc="-1" strike="noStrike">
              <a:solidFill>
                <a:srgbClr val="ffffff"/>
              </a:solidFill>
              <a:latin typeface="Arial"/>
            </a:endParaRPr>
          </a:p>
        </p:txBody>
      </p:sp>
      <p:sp>
        <p:nvSpPr>
          <p:cNvPr id="10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tant activity throughout the investig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ntion every piece of physical evidence collected and rationale for collec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may be the only source of memory recall after the crime scen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pe-recording the notes is a good ide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arrating a video as the scene is investigated is an even better idea</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deo or audio must still be transcribed into a written docu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yrolysis Gas Chromatography</a:t>
            </a:r>
            <a:endParaRPr b="0" lang="en-US" sz="3400" spc="-1" strike="noStrike">
              <a:solidFill>
                <a:srgbClr val="ffffff"/>
              </a:solidFill>
              <a:latin typeface="Arial"/>
            </a:endParaRPr>
          </a:p>
        </p:txBody>
      </p:sp>
      <p:sp>
        <p:nvSpPr>
          <p:cNvPr id="28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en to be the most valuable method of paint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chips as small as 20 micrograms are decomposed by heat into numerous gaseous products and are sent to a gas chromatograph</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esulting product is a graph like structure called a pyrogra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a series of peaks at particular molecular masses </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d to identify a particular paint formul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se Reading</a:t>
            </a:r>
            <a:endParaRPr b="0" lang="en-US" sz="3400" spc="-1" strike="noStrike">
              <a:solidFill>
                <a:srgbClr val="ffffff"/>
              </a:solidFill>
              <a:latin typeface="Arial"/>
            </a:endParaRPr>
          </a:p>
        </p:txBody>
      </p:sp>
      <p:sp>
        <p:nvSpPr>
          <p:cNvPr id="28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g. 226</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used as evid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Exam…</a:t>
            </a:r>
            <a:endParaRPr b="0" lang="en-US" sz="3400" spc="-1" strike="noStrike">
              <a:solidFill>
                <a:srgbClr val="ffffff"/>
              </a:solidFill>
              <a:latin typeface="Arial"/>
            </a:endParaRPr>
          </a:p>
        </p:txBody>
      </p:sp>
      <p:sp>
        <p:nvSpPr>
          <p:cNvPr id="288"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will be massive…</a:t>
            </a:r>
            <a:endParaRPr b="0" lang="en-US" sz="2100" spc="-1" strike="noStrike">
              <a:solidFill>
                <a:srgbClr val="ffffff"/>
              </a:solidFill>
              <a:latin typeface="Arial"/>
            </a:endParaRPr>
          </a:p>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so study…</a:t>
            </a:r>
            <a:endParaRPr b="0" lang="en-US" sz="2100" spc="-1" strike="noStrike">
              <a:solidFill>
                <a:srgbClr val="ffffff"/>
              </a:solidFill>
              <a:latin typeface="Arial"/>
            </a:endParaRPr>
          </a:p>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a lot …</a:t>
            </a:r>
            <a:endParaRPr b="0" lang="en-US" sz="2100" spc="-1" strike="noStrike">
              <a:solidFill>
                <a:srgbClr val="ffffff"/>
              </a:solidFill>
              <a:latin typeface="Arial"/>
            </a:endParaRPr>
          </a:p>
        </p:txBody>
      </p:sp>
      <p:pic>
        <p:nvPicPr>
          <p:cNvPr id="289" name="Picture 7" descr="j0186348"/>
          <p:cNvPicPr/>
          <p:nvPr/>
        </p:nvPicPr>
        <p:blipFill>
          <a:blip r:embed="rId1"/>
          <a:stretch/>
        </p:blipFill>
        <p:spPr>
          <a:xfrm>
            <a:off x="5867280" y="1967040"/>
            <a:ext cx="2344680" cy="329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22:39:44Z</dcterms:created>
  <dc:creator>Adam's Homepage</dc:creator>
  <dc:description/>
  <dc:language>en-US</dc:language>
  <cp:lastModifiedBy>Adam Goosby</cp:lastModifiedBy>
  <dcterms:modified xsi:type="dcterms:W3CDTF">2012-06-23T22:02:04Z</dcterms:modified>
  <cp:revision>27</cp:revision>
  <dc:subject/>
  <dc:title>Trace Evid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081033</vt:lpwstr>
  </property>
</Properties>
</file>